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7FC7-8A23-4DF6-86FF-3F9AA7F44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6BB-BFAB-43A2-A1DA-E17476EA721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D09-DE8C-4144-BCBC-216C6197A2A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52DC-CB6C-4B4A-BAEB-895EC5219DC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776-7283-4D94-B1CE-FD9EC30F5DF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7F3-0582-425D-8206-CA9413BFB99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4FF-E157-44BF-B208-F5FE52F8D60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824-C17D-4A87-B783-1A22CFB171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3473-621F-4C4B-9714-273370578A3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D346-ECB3-4062-8F2A-0D030ED7B67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19C-96FF-497B-95DA-A80C0923C13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18E-D034-4F32-A1D8-514AA7201CF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936-A4C8-46DF-842E-FBE93B0FBDE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35A3-A605-4731-9B0B-23C7D1F3476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C26-F29D-4C60-AF9D-24DB2F23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B5F-88EA-45FB-90B1-329D290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51-0D6F-4038-82AA-E86E026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8D1-9EF9-4381-AF9A-7DCF1101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0AB1-535A-4167-B802-60DF687E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C61F-5F58-4BC1-964E-5ADC0C90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8A8-A520-4F48-9223-AAF81F65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814-DEDE-44EC-B669-F6BE1C18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156-049A-4C6E-9D3B-9C82A67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8E40-B7D5-45D9-8A49-762BA987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37C-BAA5-420A-9E88-9CBB99F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408-1F79-4AC3-B751-9411333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157-E0E7-43FA-AB12-BEDE62F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DC7-3FAF-46AF-B01D-2A6BCCC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D73E-0B7D-4EED-891C-31370FD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9084-ECCF-4C90-860E-F8978F3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14C9-3A0B-47B1-BB26-FA38543E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FED-FD19-4E26-B14A-8A0AE53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A59-98AB-4BC8-86BB-D945561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DA5-BF07-4D98-BEFD-6F5D1CB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96C-31C0-4AC8-B21B-85952AC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EC7-1658-4832-BFE7-D8287BC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05E-DB62-4D5D-8D99-9826C14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D24-3A04-4242-8410-C185B5C2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DCC-FC2B-41FE-AACB-281D1D2C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0CB-5FD3-4D2A-B1AD-01948B52EB52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eChalk Session 2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Using Contacts in eChalk Email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Divide into 3 groups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Each group will choose 1 way to add a group list (add contacts manually, select contacts, or add from address book)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Make a group list of members of this class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3520" y="56707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hare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How did your group create the group list?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hare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 method for adding members to a group lis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038480" y="1981080"/>
          <a:ext cx="4572000" cy="4343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dd contacts manually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elect contacts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dd from address book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iscover Some More Feature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an you figure out how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Write Mail, open up a blank email and insert an address from your address book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message to a group by typing the group name on the To: line (in Write Mail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pen up an email you’ve received and add th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er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to your address book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contac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the alphabet bar to find the individual email addresses and group lists that you’ve added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5486400"/>
            <a:ext cx="670536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learn about using the address book in eChalk email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other new discoveries did you mak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upport others in using their eChalk email address books?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the eChalk email address book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dd conta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dd group lis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 email to our contacts 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Address Boo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Go to ‘school number.nycdoe.org’  Logi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Click the Address Book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Click Add Contac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BD21298_"/>
          <p:cNvPicPr/>
          <p:nvPr/>
        </p:nvPicPr>
        <p:blipFill>
          <a:blip r:embed="rId1"/>
          <a:stretch/>
        </p:blipFill>
        <p:spPr>
          <a:xfrm flipH="1" rot="11974200">
            <a:off x="532800" y="4799880"/>
            <a:ext cx="685800" cy="43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2"/>
          <a:stretch/>
        </p:blipFill>
        <p:spPr>
          <a:xfrm>
            <a:off x="1219320" y="3381480"/>
            <a:ext cx="7619760" cy="24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BD21298_"/>
          <p:cNvPicPr/>
          <p:nvPr/>
        </p:nvPicPr>
        <p:blipFill>
          <a:blip r:embed="rId3"/>
          <a:stretch/>
        </p:blipFill>
        <p:spPr>
          <a:xfrm flipH="1" rot="17423400">
            <a:off x="4418640" y="317268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Contac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 your teacher gives you his/ her contact info, fill it in. 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on’t forget to save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334120" cy="377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2"/>
          <a:stretch/>
        </p:blipFill>
        <p:spPr>
          <a:xfrm>
            <a:off x="3352680" y="6448320"/>
            <a:ext cx="628920" cy="40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BD21298_"/>
          <p:cNvPicPr/>
          <p:nvPr/>
        </p:nvPicPr>
        <p:blipFill>
          <a:blip r:embed="rId3"/>
          <a:stretch/>
        </p:blipFill>
        <p:spPr>
          <a:xfrm flipH="1" rot="19967400">
            <a:off x="3962520" y="611676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noth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heck the box next to your partner’s name and then Send Mail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e body of the email, list some people you may want to put in your address book. Send i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714840" cy="2228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33520" y="1981080"/>
            <a:ext cx="82296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xchange info with a partner and add them as a new contac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6" descr="BD21298_"/>
          <p:cNvPicPr/>
          <p:nvPr/>
        </p:nvPicPr>
        <p:blipFill>
          <a:blip r:embed="rId2"/>
          <a:stretch/>
        </p:blipFill>
        <p:spPr>
          <a:xfrm flipH="1" rot="11866200">
            <a:off x="4494960" y="4799880"/>
            <a:ext cx="60984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BD21298_"/>
          <p:cNvPicPr/>
          <p:nvPr/>
        </p:nvPicPr>
        <p:blipFill>
          <a:blip r:embed="rId3"/>
          <a:stretch/>
        </p:blipFill>
        <p:spPr>
          <a:xfrm flipH="1" rot="18294000">
            <a:off x="5994720" y="383436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4114800" cy="23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5648040" cy="876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Group Lis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Click Add Group Li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roup lis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d for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: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ive th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roup a nam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d description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lick Nex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6" name="Picture 7" descr="BD21298_"/>
          <p:cNvPicPr/>
          <p:nvPr/>
        </p:nvPicPr>
        <p:blipFill>
          <a:blip r:embed="rId3"/>
          <a:stretch/>
        </p:blipFill>
        <p:spPr>
          <a:xfrm flipH="1" rot="17577000">
            <a:off x="7824600" y="2386440"/>
            <a:ext cx="609480" cy="40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D21298_"/>
          <p:cNvPicPr/>
          <p:nvPr/>
        </p:nvPicPr>
        <p:blipFill>
          <a:blip r:embed="rId4"/>
          <a:stretch/>
        </p:blipFill>
        <p:spPr>
          <a:xfrm flipH="1" rot="9147000">
            <a:off x="3962160" y="403848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BD21298_"/>
          <p:cNvPicPr/>
          <p:nvPr/>
        </p:nvPicPr>
        <p:blipFill>
          <a:blip r:embed="rId5"/>
          <a:stretch/>
        </p:blipFill>
        <p:spPr>
          <a:xfrm flipH="1" rot="9147000">
            <a:off x="3885120" y="457128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BD21298_"/>
          <p:cNvPicPr/>
          <p:nvPr/>
        </p:nvPicPr>
        <p:blipFill>
          <a:blip r:embed="rId6"/>
          <a:stretch/>
        </p:blipFill>
        <p:spPr>
          <a:xfrm flipH="1" rot="9146400">
            <a:off x="4267080" y="624816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04820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Group Lis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Choose the way to add memb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3" name="Picture 7" descr="BD21298_"/>
          <p:cNvPicPr/>
          <p:nvPr/>
        </p:nvPicPr>
        <p:blipFill>
          <a:blip r:embed="rId2"/>
          <a:stretch/>
        </p:blipFill>
        <p:spPr>
          <a:xfrm flipH="1" rot="10968600">
            <a:off x="2895120" y="3195000"/>
            <a:ext cx="1217880" cy="40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2390760" cy="2054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2857680" y="3857760"/>
            <a:ext cx="2314440" cy="27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5"/>
          <a:stretch/>
        </p:blipFill>
        <p:spPr>
          <a:xfrm>
            <a:off x="5791320" y="4267080"/>
            <a:ext cx="2895480" cy="188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D21298_"/>
          <p:cNvPicPr/>
          <p:nvPr/>
        </p:nvPicPr>
        <p:blipFill>
          <a:blip r:embed="rId6"/>
          <a:stretch/>
        </p:blipFill>
        <p:spPr>
          <a:xfrm flipH="1" rot="7690800">
            <a:off x="4940640" y="3707640"/>
            <a:ext cx="930240" cy="40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BD21298_"/>
          <p:cNvPicPr/>
          <p:nvPr/>
        </p:nvPicPr>
        <p:blipFill>
          <a:blip r:embed="rId7"/>
          <a:stretch/>
        </p:blipFill>
        <p:spPr>
          <a:xfrm flipH="1" rot="16489800">
            <a:off x="7164360" y="3947400"/>
            <a:ext cx="838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2-10T17:57:51Z</dcterms:modified>
  <cp:revision>39</cp:revision>
  <dc:subject/>
  <dc:title>Workshop Title</dc:title>
</cp:coreProperties>
</file>